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9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CFA-3C61-459F-8087-384FFE73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95D-D1B9-43DD-A652-D11F86A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16E-387A-421A-87FE-6ECB917C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EA1-85E6-41F3-B54B-B914C170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C14AC-FFFC-41CD-818E-AA4D8C00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E5704-1866-4C68-8DE3-C5A825C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12D05-5B29-451E-B022-E2E9F0F4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8B7A-D6F7-47FD-8F20-D9C497BF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73F0-EA8D-42B1-8A4C-A83BF2B1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6CF30-24C7-4D75-97C9-B68C4EDA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5D557-14B0-4644-A8D3-0B020E7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3F1-9E9A-4203-BBC1-30B20106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42C26-8018-4193-B75D-9A948FF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1551B-A557-4361-BE1D-CD0A943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DEFC-10EA-4417-88BC-C08E714C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A6F56-14F4-410C-8EF6-D2827304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671C-4F68-4544-870C-2275A9CA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789-6326-44FA-B7CF-D2C0749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059-2DBB-4512-A422-BC2F70D4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BDC-049B-4B56-8A5D-96AF374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18E-D551-4B22-9A03-3F9351DC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5B8-DC9D-4E01-ACE9-BCB55B8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675-F821-4475-93AC-F5712EDA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5EE-D6DB-4A3C-A523-B294C4A0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D0CD-43C3-46B7-941C-6C9F2C755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E01-D756-4E87-B331-818CB9F4E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zelwood.k12.mo.us/~grichert/explore/dswmedia/density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ves.k12.ky.us/PowerPoints/gchs/hsjchumbler.ppt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audio" Target="file:///tmp/home/.config/libreoffice/4/user/gallery/MSSN00652A0000%5B1%5D.wav" TargetMode="External"/><Relationship Id="rId5" Type="http://schemas.microsoft.com/office/2007/relationships/media" Target="file:///tmp/home/.config/libreoffice/4/user/gallery/MSSN00652A0000%5B1%5D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audio" Target="file:///tmp/home/.config/libreoffice/4/user/gallery/MSj00748020000%5B1%5D.wav" TargetMode="External"/><Relationship Id="rId4" Type="http://schemas.microsoft.com/office/2007/relationships/media" Target="file:///tmp/home/.config/libreoffice/4/user/gallery/MSj00748020000%5B1%5D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MSj03884350000%5B1%5D.wav" TargetMode="External"/><Relationship Id="rId4" Type="http://schemas.microsoft.com/office/2007/relationships/media" Target="file:///tmp/home/.config/libreoffice/4/user/gallery/MSj03884350000%5B1%5D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 in Fluid Syste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 Rectangular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olume = length X width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, ft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Math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of water   =   1 g / 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ater Weight Density = 62.4 lb  /  ft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ydrometer – an instrument tha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measures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fic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density of a substance / density of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Ex:  Density of lead is 11.34 g/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Specific gravity of lead is 11.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e:  Specific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4" marL="19544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glish       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n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of a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b/ ft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g/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ensity of water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lb/ ft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g/cm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ale of Archim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d the goldsmith steal some of the gold that was to be used in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own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567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00400" y="3809880"/>
            <a:ext cx="39625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King was sure some of his gold was stol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rchimedes did not discover the answer Archimedes would pay with his lif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9396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oyant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n upward force on an object that’s equal to the weight of the fluid displaced determining whether an object sinks or flo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4068720"/>
            <a:ext cx="5715000" cy="278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23464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 and Buoy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 you are putting solids in water (1g/ml), if the density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 g/ml or less flo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 g/ml or more si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pply this pattern to other 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ensity/buoyancy A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Gravity Math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 states of matt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lip chart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=  Force  /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4713120" cy="336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362320" y="4038480"/>
            <a:ext cx="2590560" cy="2219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6095880" y="228600"/>
            <a:ext cx="30481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90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Area =  length  X  wid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, ft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: 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nglish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          P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si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N/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Force               F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lb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ea                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sure Examp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man has stiletto heels on she weighs 120 lb and the heel is 0.5 “ X  0.5”.  How much pressure would the heal exert if all the woman’s weight is on one he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ea=  0.5”  X 0.5”  =  0.25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 = F  /  A   = 120 lb / 0.25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=  480 psi  ( psi= lb/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More than enough to puncture skin or the aluminum of an airp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Pascal’s Princ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A change in pressure at any point in a confined fluid is transmitted undiminished throughout the fluid  ex:  bar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8580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897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tal Pressu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 gage pressure  +  atmospheric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tmospheric pressur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y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30 inches of mercury   OR  1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:  Total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English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tal pressur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P to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s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age pressure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P g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psi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tmospheric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P atm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4.7 psi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30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tal Pressure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ar tire needs a gage pressure of 30psi.  What would be the total pressure on the t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tal pressure =  gage pressure  +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mospheric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m press= 1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Tot press= 30 psi  + 14.7 psi =  4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 H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= water weight density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can be used for any substance as long as you know the weight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Fluid H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P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b/ft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kg/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ater wgt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62.4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lb/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1000 kg/m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luid heigh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h            f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can be a liquid or a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in Tan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The tank with the greatest fluid height has the greatest pressure (figure 1.26 pg 4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f two tanks have the same height but different diameter the pressure at the bottom is the 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igure 1.28 pg 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ven if the tank funnels down to a small bottom surface, the pressure remains the same for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same dep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of flu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Pressure in Tank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676520" y="2438280"/>
            <a:ext cx="126828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1268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17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 Height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 tower is 300 ft high.  What should the water pressure gage read at the bottom of the tow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= water weight density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Pressure =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62.4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lb/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X    300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Pressure = 18,720  lb / 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raulic 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system that uses a liquid as the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105520" cy="3311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2209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neuma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system that uses a gas as the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page 30 for the Density Table 1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 =  mass  / 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:  2 silver cu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Rearranging Equ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nsity  =  mass  /  volum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m / V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 = D V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V = m /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4197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38280" y="2057400"/>
            <a:ext cx="18288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267080" y="2057400"/>
            <a:ext cx="18288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352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352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e:  Densit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nglish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ns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b-mas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ass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b-mass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Volume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yd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nsity Ex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ensity of an object that has a mass of 30 kg and a volume of 6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 =  mass  / 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30 kg / 60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0.5 kg/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4:51:20Z</dcterms:created>
  <dc:creator>ksmith</dc:creator>
  <dc:description/>
  <dc:language>en-US</dc:language>
  <cp:lastModifiedBy>ksmith</cp:lastModifiedBy>
  <dcterms:modified xsi:type="dcterms:W3CDTF">2009-08-27T02:06:11Z</dcterms:modified>
  <cp:revision>32</cp:revision>
  <dc:subject/>
  <dc:title>Ch 1.2 Fluid Systems </dc:title>
</cp:coreProperties>
</file>